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3BB0-920C-4225-B7F0-0A94C368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656B-7E48-4167-A0B8-9B0A1D74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56D0-55F1-4586-AF12-2827B725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1594-AA75-459D-A373-1ABF298A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7BAC-C4F2-4C33-8169-A6C13435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F1FB-9E90-40F1-85A9-386EBA95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C4DF-40DD-4698-AF44-8D7C76D7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E53F-0438-4F14-8429-0EB918AC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E5C4-2B64-4AA9-9844-7A82E5FA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761C-FF2A-4DDC-AEDD-C1405FEB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E429-5B13-49E1-A249-376C4945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2545-68B7-4696-A8CD-3FD17FD8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0254B5-69AB-41A4-938E-6B9DA5924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iciple cla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can use a present or past participle in a clause which has an adverbial meaning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8692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lauses can be about TIME, REASON, and RESUL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Openin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er eyes, the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ab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began to cry. (When she opened her eyes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Fac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with a bill for €10,000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Joh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as taken on a second job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eing imported,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radio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were more expensiv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Having been hunted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ose to extinction, the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rhino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s once again common in this are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y can replace a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on-defining relative clau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Feelin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ired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ouis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went to be early. (Louise, who was feeling tired,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Form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25 years ago, the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lub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s holding an anniversary par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the negative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ot wanting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wake her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tev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left the house silentl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referring not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go out that night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ade an excu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mplied subject is usually the same as the subject of the main cla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rriv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t the party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aw Rut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and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l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aving wante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drive a train all his life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knew that this was an opportunity not to be miss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uses that give information about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Glanci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ver his shoulder, he could see the dog chasing hi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Having completed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book, he went on holida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Putting o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serious face, she began to tella stor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ait a minute!’, said Frank,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runni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rough the hal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Having drive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five hours, Dan found out that the meeting had been postpon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Taking off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s shoes /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Having taken off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s shoes, Ray walked into the hou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uses that give information about REASONS and RESUL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now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xactly what I wanted, I didn’t spend much time shopp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e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lim, he could squeeze through the opening in the f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aving been invit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the party, we could hardly refuse to 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write the sentences beginning with a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–in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st participl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rie left work early because she didn’t feel too wel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manager was impressed by Jo’s work so he extended so he extended her contract for a yea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e had acquired the money through hard work, so he was reluctant to give it awa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cause he had started the course, Alan was determined to complete i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s he didn’t want to offend him, we said nothing about his painting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s I haven’t seen all the evidence, I am reluctant to make a judg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t the quoted speech first, and use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–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u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I grabbed Don by the arm, I said, ‘Look it’s Tim’s new car!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she pointed to the empty table, Sandra said, ‘My bag was here just a moment ago!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she turned over in bed, Helen groaned, “I’ll get up in an hour or so.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se verbs in the following sentenc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rive   climb   spend   take  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. the wrong bus, Tony found himself in an unfamiliar tow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. a tree, Lee was able to see a way out of the fores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. as a clerk, house painter, and bus driver, neil decided to go back to univers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. all morning working in the garden, Betty took a short lunch brea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early for his appointment, Ron spent some time looking at the magazin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ch the sentence halves and form new sentences with participle clau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e was a do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 didn’t expect anyone to be in the hou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room had been painted in dark colou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ve was unemploy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 don’t speak Itali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rbara had been a teacher for 14 yea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---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e knew how to keep children interest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 found life in Sicily difficul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 walked straight i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e knew the side effects the medicine could hav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 had time to consider what ob he really want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room needed some bright ligh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3T09:32:13Z</dcterms:created>
  <dc:creator>Paul Filippetto</dc:creator>
  <dc:description/>
  <dc:language>en-US</dc:language>
  <cp:lastModifiedBy>Paul Filippetto</cp:lastModifiedBy>
  <dcterms:modified xsi:type="dcterms:W3CDTF">2014-04-03T10:25:58Z</dcterms:modified>
  <cp:revision>9</cp:revision>
  <dc:subject/>
  <dc:title>participle clauses</dc:title>
</cp:coreProperties>
</file>